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4ED-1F50-4177-B19D-625C9F10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E57-1115-4CF5-9B05-6759E86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017-BAFC-41C9-ADEC-1D74181B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D24-A8B4-477E-8651-3CEE30BB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EBD-65EE-4F52-8CCA-775AF679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D7F-A1DB-4636-BBB8-A310581E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44D-C0FF-42DA-A8E6-4756F2AC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77C-9033-43BB-8807-51D2AD34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17F-54A3-4F56-AB09-12FF1013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A1F-8328-4353-8D35-65062E6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045-4544-45A9-9E62-0EF0AD23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9A9-4AA1-42D0-B07C-EE8949FB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B3EF5-6365-4CA9-941C-A63E9BBD5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HR-hoUK7nHo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826920"/>
            <a:ext cx="15890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lik 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37240" y="3500280"/>
            <a:ext cx="408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ff950e"/>
                </a:solidFill>
                <a:uFillTx/>
                <a:latin typeface="Arial"/>
              </a:rPr>
              <a:t>UNDERGROUND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35880" y="395928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Numbe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billions people depends of the underground wate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40% of the agriculture need underground water to the watering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underground water level have goes down of 3metres to 30me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619280"/>
            <a:ext cx="882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720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3073320"/>
            <a:ext cx="3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0000" y="2894040"/>
            <a:ext cx="53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720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720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Farmers must put on the wattering on the night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Farmers must use less pesticides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We need to polute less the atmosphere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o reduce the global warming --&gt; More rain ,less h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66cc"/>
                </a:solidFill>
                <a:latin typeface="Arial"/>
              </a:rPr>
              <a:t>Hope you've enjoyed this presentatio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♥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For the search of the picture and the editing:</a:t>
            </a: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Antoine CHEVALIER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For the presentation of the power point and the texts:</a:t>
            </a: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Juliette DELERUE</a:t>
            </a: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Anna JOUVEY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And the last personn of the group:</a:t>
            </a:r>
            <a:br>
              <a:rPr sz="2600"/>
            </a:br>
            <a:r>
              <a:rPr b="0" lang="en-US" sz="2400" spc="-1" strike="noStrike">
                <a:solidFill>
                  <a:srgbClr val="ff8080"/>
                </a:solidFill>
                <a:latin typeface="Arial"/>
              </a:rPr>
              <a:t>Lucas LARCHER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79280"/>
            <a:ext cx="406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c5000b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720360" cy="647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752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4700b8"/>
                </a:solidFill>
                <a:latin typeface="Comic Sans MS"/>
              </a:rPr>
              <a:t>An underground water (from the grec "phrear" which means "well")</a:t>
            </a:r>
            <a:br>
              <a:rPr sz="2100"/>
            </a:br>
            <a:r>
              <a:rPr b="1" lang="en-US" sz="2100" spc="-1" strike="noStrike">
                <a:solidFill>
                  <a:srgbClr val="4700b8"/>
                </a:solidFill>
                <a:latin typeface="Comic Sans MS"/>
              </a:rPr>
              <a:t>          is a mass of water  in a crack of the underground,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4700b8"/>
                </a:solidFill>
                <a:latin typeface="Comic Sans MS"/>
              </a:rPr>
              <a:t>      It's the water which is the most exposed to the pollution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79280"/>
            <a:ext cx="936000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The water cycle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• The impact of pesticides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• The impact of the h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47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ff9966"/>
                </a:solidFill>
                <a:latin typeface="Arial"/>
              </a:rPr>
              <a:t>Summ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• </a:t>
            </a: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The water cycle</a:t>
            </a:r>
            <a:br>
              <a:rPr sz="5400"/>
            </a:b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• The impact of the heat</a:t>
            </a:r>
            <a:br>
              <a:rPr sz="5400"/>
            </a:b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• The impact of pestici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• </a:t>
            </a: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Sol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3600360" cy="107964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wat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un shines, the water evaporates and rises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tmosphere. Water gets conden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e contact with the cold ai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becomes clouds. After when it's rain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come back on the heart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goes into the crack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ground. After we pump the underground water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Etc.</a:t>
            </a:r>
            <a:br>
              <a:rPr sz="2600"/>
            </a:b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&gt; Because of the farmer who sprinkle thei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eather it's ho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evaporates, so there's less wat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under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00720" y="2844720"/>
            <a:ext cx="181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0000" y="2879640"/>
            <a:ext cx="181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e farmers who use pesticides in their field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water infiltrated in the ground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oes down into the crack, water is pollute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underground water is then less explo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